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785-4447-471B-993F-CD944264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3BD-8673-406C-BAC5-C7B08E50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258-7BB4-47ED-A843-425DE81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D46-921D-44AD-9A3F-091C59D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BF80-133B-431B-A42A-D46FCC0D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2608-07F1-460A-8A73-E474BB1D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1146-F22E-4CF2-9ADA-C6559271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C7B7-6EC1-4B3E-B494-FA3071F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669-156E-46F0-BCC7-E39E3ED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A42A-FB26-406D-9959-E4579276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139E-7B19-45A6-93EA-85D4FBB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08B-B04A-40A5-9D8C-53630735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A181-9373-44EC-ACEF-C8F1873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6826-E18E-4169-A3D0-D736061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73D-5690-452B-841F-A60A733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D31C-1347-4462-8BFE-031AFBC9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EB1B-2F7B-4309-BF36-2B539F08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173-C50E-4EA5-BB9F-ECE859AB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0EE-700A-4A94-9CDD-1C063499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82C-351C-45FB-A438-712CB1A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0BC-F953-47EB-9F02-0A37796A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E48-1965-45E2-AF8E-91BFDE5D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7B0-4283-481B-A376-3CA44AFB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DFB-5D99-4C44-BFB0-7B8BC58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73BA-5BB6-47BE-93FE-BD02B0BD95C9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EBFB-B864-4198-AF18-5F4BCDC89A14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55CB-E220-4EBA-8062-6A44AD98EBA3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F88-AC47-4893-BE64-71DC2A950EAB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Team Lefthook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ichelle Williams-Da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u Y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li As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91C7-79AE-454E-B06E-A31A2C2342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9D6E081-F845-41ED-9B74-CD6D323A00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4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4. The patients and parents are not given information about the future care delivery and a feeling of an inability to control surroundings is fe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5FB-7C13-4EB8-98CB-D762F627CF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B9257-7CD2-44E0-8411-59D30B3431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4: Children’s Hospital of 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800 visits recor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25% dis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ack of warmth and friendl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Failure to address patient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Explanation of diagnosis and causation of i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Use of medical “jarg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C1C-5E4E-46F9-A37A-DCBB237F87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D7867-58B3-4A97-8BC6-358B8F4839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The hospital environment is not conducive to the healing process.  Multiple problems exist from the state of rooms, to the lack of activ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B05-AE9A-4991-B44B-5DF7D88FEE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9A17E-A05A-4C73-BF4B-CDF43DA9D0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ww.canerworld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EH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Display of ar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Opportunity to ret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ccess to fresh air and natural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2A6-0125-486E-9C22-91E29ED222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EAE81-7EC3-41CC-97C9-026AC9161D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6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families of the patients accompany the patient to the hospital which leads to a larger number of visitors and personal items in the hos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siblings of the patients feel worried and confined within the hospit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overall mental health of the patients with chronic diseases needs to be acknowledg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174-65F9-46C7-9EF6-82594F80C3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25B80-95A0-42B3-871E-54B5B34C72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yler’s Place and Sibling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American Family Children’s Hos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Alberta Children’s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33345"/>
          <a:stretch/>
        </p:blipFill>
        <p:spPr>
          <a:xfrm>
            <a:off x="5181480" y="2286000"/>
            <a:ext cx="3148200" cy="3200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2886120" cy="12654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B1F-CB72-4198-9DB0-BD2C767927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2E93E-EE52-438F-9531-F8BBED3560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Positive Imaging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American Family Children’s Hos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Application to the three centers of excell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Pet 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374920" cy="2819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135-B3F5-4CB4-9E9F-E177AD67DB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82BEF-CB77-405B-9C0D-2AEDF266F2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F84-67CD-4ACB-A32C-AC5DE61DE8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CC524-4376-4922-95A3-6CA6013F8E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 (1-3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1. Provide transparency of the environment and processes to all ages of us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2. Insure flexibility in design to create an ageless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3. Promote a soothing family and patient friendly enviro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F76-D685-46E2-846A-F5BB0136AD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3786C-3BC8-459F-996F-312D3908CE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 (4-5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4. Ensure commitment to education, research and community service as a means of discovering new and better methods to meet the unique health care needs of children within the three centers of excell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5. Provide health care of children and families in a healing environment that emphasizes their quality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115-B61B-406B-B580-C54C287B9A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CB13B-04D2-4FEB-AA75-1AC8001531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The emergency department has a complicated floor pl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The visibility is limited by many turns and narrow corrid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30600" y="411156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411156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373800" y="4113360"/>
            <a:ext cx="254160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BA4-29DE-419F-9A59-B11D89451A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04E4A-E930-4214-A6E0-C17844A5AB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1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  <a:ea typeface="宋体"/>
              </a:rPr>
              <a:t>the influence of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omplexity of floor plan configur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sman (197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d complexity of floor plan configu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&gt;reported wayfinding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173 subjects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35268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39-5F57-4E22-BC81-0CF5A63F7F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D3C41-6110-4047-A58E-37D2C8407A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1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  <a:ea typeface="宋体"/>
              </a:rPr>
              <a:t>the influence of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omplexity of floor plan configuration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3886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'Neill, (199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-Connection Density, the average number of connections per choice in a floor p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&gt;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) time to locate the destination and (2) number of wrong turns m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63 subjects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32A-7297-4679-89D3-420272D016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58F21-6128-4FEF-A2AC-5B1C5C7EF4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s #2 &amp; #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2. Design company proposes to use single entrance for different departm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3. The entire hospital will move into the new site in one weekend and still remain operation. It may cause lots of wayfinding problems to staff memb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B7B-0D8C-4D66-B960-65A9FB3158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9A2E7-CDF2-44B6-A438-0D54C415C3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imilar spatial performance for people navig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real-world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equivalent virtual enviro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ansen-Osmann, P., &amp; Wiedenbauer, G. (2004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Ruddle, R. A., &amp; Lessells, S. (20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771-87C7-4920-A98E-E3859AB314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35DE0-C6A6-4E15-8A80-F7DDDCEA6D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People with virtual environ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training outperform people without train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Hunt, M. E. (198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Foreman, N., et al, (20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6AD-4165-4884-8E0F-6B3E321EC7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2DB07-7407-4715-96BE-E652FF68BF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05:42Z</dcterms:created>
  <dc:creator>Ron Davis</dc:creator>
  <dc:description/>
  <cp:keywords/>
  <dc:language>en-US</dc:language>
  <cp:lastModifiedBy>Lu, Yi</cp:lastModifiedBy>
  <dcterms:modified xsi:type="dcterms:W3CDTF">2007-10-04T16:59:41Z</dcterms:modified>
  <cp:revision>8</cp:revision>
  <dc:subject/>
  <dc:title>Team Lefthoo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21033</vt:lpwstr>
  </property>
</Properties>
</file>